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C077-2EBA-493E-9E2C-6E48798EA5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313-E0C8-45C7-A763-F99C797F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19B-B381-42E2-BC44-BF5F04AF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4C8-D8E7-42CE-88B6-549DA524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3B4-85F2-4387-BADC-B1415E8E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42C5-F7E2-41A2-BA10-C83C9EC3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16AF-1587-4AA6-8788-F5258894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A9C4-B275-4C20-A43D-DFCB8BE1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6210-1C09-4C60-8932-8FB67C98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1A46-3671-4152-A138-8E09BE53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28CB-57C9-49A4-B683-B353CE17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D143-EAB7-472F-9C66-C5D30E28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6FE-67E8-4489-9B53-BE41CA9E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C446-A30E-43D6-BEEF-68791716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AA63-2F96-4D1B-B119-C7F148F4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9819-E49E-44C6-8576-A296B58B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C4C2-677D-4229-A3F7-0BDDDB8F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95A3-BED4-49D9-A11A-67C0EEEE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989-FCEE-41BB-BE45-8EBE0386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6BE-F328-44B9-BFC2-F8F614DE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10E-8C34-4C4E-BF02-8806823B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0EE5-73AC-4E62-B5CA-277DE337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C04-9A86-4E48-8C7A-C5973516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D1F-4A95-4AD9-8B73-38F95741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CD3-5750-4296-9ADA-C598A156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5220-D534-43DC-B3EB-19C18B23B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2547-A452-4F7E-8C1C-DC3CC1232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Start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Uses of plastics - Statis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6" descr="Uses of plastic as percentage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Types of Plast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7720" y="1904760"/>
          <a:ext cx="8007480" cy="4190760"/>
        </p:xfrm>
        <a:graphic>
          <a:graphicData uri="http://schemas.openxmlformats.org/drawingml/2006/table"/>
        </a:graphic>
      </p:graphicFrame>
      <p:pic>
        <p:nvPicPr>
          <p:cNvPr id="111" name="Picture 12" descr="Recycling Logo"/>
          <p:cNvPicPr/>
          <p:nvPr/>
        </p:nvPicPr>
        <p:blipFill>
          <a:blip r:embed="rId1"/>
          <a:stretch/>
        </p:blipFill>
        <p:spPr>
          <a:xfrm>
            <a:off x="-571680" y="1260360"/>
            <a:ext cx="3337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Recycling Logo"/>
          <p:cNvPicPr/>
          <p:nvPr/>
        </p:nvPicPr>
        <p:blipFill>
          <a:blip r:embed="rId2"/>
          <a:stretch/>
        </p:blipFill>
        <p:spPr>
          <a:xfrm>
            <a:off x="-571680" y="1222200"/>
            <a:ext cx="343080" cy="31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Recycling Logo"/>
          <p:cNvPicPr/>
          <p:nvPr/>
        </p:nvPicPr>
        <p:blipFill>
          <a:blip r:embed="rId3"/>
          <a:stretch/>
        </p:blipFill>
        <p:spPr>
          <a:xfrm>
            <a:off x="-571680" y="11732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Recycling Logo"/>
          <p:cNvPicPr/>
          <p:nvPr/>
        </p:nvPicPr>
        <p:blipFill>
          <a:blip r:embed="rId4"/>
          <a:stretch/>
        </p:blipFill>
        <p:spPr>
          <a:xfrm>
            <a:off x="-571680" y="106668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Recycling Logo"/>
          <p:cNvPicPr/>
          <p:nvPr/>
        </p:nvPicPr>
        <p:blipFill>
          <a:blip r:embed="rId5"/>
          <a:stretch/>
        </p:blipFill>
        <p:spPr>
          <a:xfrm>
            <a:off x="-571680" y="1019160"/>
            <a:ext cx="33372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ecycling Logo"/>
          <p:cNvPicPr/>
          <p:nvPr/>
        </p:nvPicPr>
        <p:blipFill>
          <a:blip r:embed="rId6"/>
          <a:stretch/>
        </p:blipFill>
        <p:spPr>
          <a:xfrm>
            <a:off x="-571680" y="9698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Recycling Logo"/>
          <p:cNvPicPr/>
          <p:nvPr/>
        </p:nvPicPr>
        <p:blipFill>
          <a:blip r:embed="rId7"/>
          <a:stretch/>
        </p:blipFill>
        <p:spPr>
          <a:xfrm>
            <a:off x="-571680" y="952560"/>
            <a:ext cx="343080" cy="314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3"/>
          <p:cNvSpPr/>
          <p:nvPr/>
        </p:nvSpPr>
        <p:spPr>
          <a:xfrm>
            <a:off x="57168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979640" y="1700280"/>
          <a:ext cx="5133960" cy="4906800"/>
        </p:xfrm>
        <a:graphic>
          <a:graphicData uri="http://schemas.openxmlformats.org/drawingml/2006/table">
            <a:tbl>
              <a:tblPr/>
              <a:tblGrid>
                <a:gridCol w="615960"/>
                <a:gridCol w="860400"/>
                <a:gridCol w="365760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ethylene terephthalat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izzy drink bottles and oven-ready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High-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Bottles for milk and washing-up liquid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V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vinyl chlorid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ood trays, cling film, bottles for squash, mineral water and shampo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ow 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Carrier bags and bin line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prop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Margarine tubs, microwaveable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styr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Yoghurt pots, foam meat or fish trays, hamburger boxes and egg cartons, vending cups, plastic cutlery, protective packaging for electronic goods and to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y other plastic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at do not fall into any of the above categories. - An example is melamine, which is often used in plastic plates and cup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ercentage that can be recycl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y recycle plastic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emissions of carbon-dioxide (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nitrogen-oxide (NO) and sulphur-dioxide (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How are polymers recycle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M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at can we d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20:09:29Z</dcterms:created>
  <dc:creator>EP School</dc:creator>
  <dc:description>Starter plastic recycling</dc:description>
  <cp:keywords>Starter plastic recycling</cp:keywords>
  <dc:language>en-US</dc:language>
  <cp:lastModifiedBy>RomaK</cp:lastModifiedBy>
  <dcterms:modified xsi:type="dcterms:W3CDTF">2015-09-02T06:00:44Z</dcterms:modified>
  <cp:revision>14</cp:revision>
  <dc:subject>Starter plastic recycling</dc:subject>
  <dc:title>Starter plastic recycling</dc:title>
</cp:coreProperties>
</file>